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072-8E7E-4BE5-9C34-CF71B022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319-52F9-4289-83DE-41773F7D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023-25F7-45EF-B754-16E8E2E9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FA8-4598-46F0-8EDE-7669C283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304-223F-4816-B8B2-B21F627C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EAC-525B-49ED-BBE8-929626DD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6FA-4B8C-4BE7-A9F2-45A5E7F1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D53-9B86-459B-BAB2-BE5E0934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673-36E0-471E-8C77-9744B026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5CB-188E-4D14-AF79-73AEDE36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9F9-DE0B-43F6-AFEB-4CDE7A19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424-24F3-46F6-8B0E-92FCB21C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DB6D-107F-4250-9233-CA8314E436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9"/>
          <p:cNvSpPr txBox="1"/>
          <p:nvPr/>
        </p:nvSpPr>
        <p:spPr>
          <a:xfrm>
            <a:off x="619200" y="2579760"/>
            <a:ext cx="7619760" cy="16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Times New Roman"/>
              </a:rPr>
              <a:t>I've had this bike for three years.</a:t>
            </a:r>
            <a:endParaRPr b="1" i="1" lang="en-US" sz="60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954160" y="752400"/>
            <a:ext cx="3789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cc6600"/>
                </a:solidFill>
                <a:latin typeface="宋体"/>
              </a:rPr>
              <a:t>Unit 10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cc6600"/>
              </a:solidFill>
              <a:latin typeface="宋体"/>
              <a:ea typeface="宋体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030320" y="4822920"/>
            <a:ext cx="32176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riod 1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254480" y="4818240"/>
            <a:ext cx="47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ection A(1a-2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2000" y="939600"/>
            <a:ext cx="8352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Arial"/>
              </a:rPr>
              <a:t>1b </a:t>
            </a:r>
            <a:r>
              <a:rPr b="1" lang="en-US" sz="3800" spc="-1" strike="noStrike">
                <a:solidFill>
                  <a:srgbClr val="ff9900"/>
                </a:solidFill>
                <a:latin typeface="Arial"/>
              </a:rPr>
              <a:t>Listen and check (</a:t>
            </a:r>
            <a:r>
              <a:rPr b="1" lang="en-US" sz="3800" spc="-1" strike="noStrike">
                <a:solidFill>
                  <a:srgbClr val="ff9900"/>
                </a:solidFill>
                <a:latin typeface="Arial"/>
                <a:ea typeface="Arial"/>
              </a:rPr>
              <a:t>√</a:t>
            </a:r>
            <a:r>
              <a:rPr b="1" lang="en-US" sz="3800" spc="-1" strike="noStrike">
                <a:solidFill>
                  <a:srgbClr val="ff9900"/>
                </a:solidFill>
                <a:latin typeface="Arial"/>
              </a:rPr>
              <a:t>) the facts    </a:t>
            </a:r>
            <a:br>
              <a:rPr sz="3800"/>
            </a:br>
            <a:r>
              <a:rPr b="1" lang="en-US" sz="3800" spc="-1" strike="noStrike">
                <a:solidFill>
                  <a:srgbClr val="ff9900"/>
                </a:solidFill>
                <a:latin typeface="Arial"/>
              </a:rPr>
              <a:t>      you hear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2320" y="2133360"/>
            <a:ext cx="8761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Jeff’s family is having a yard s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Amy thinks it’s hard to sell her old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Jeff has had his bike for more than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Amy wants to keep her old things because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bring back sweet mem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You can also give old things away to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n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32520" y="2133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632520" y="270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504000" y="4807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5"/>
          <p:cNvSpPr txBox="1"/>
          <p:nvPr/>
        </p:nvSpPr>
        <p:spPr>
          <a:xfrm>
            <a:off x="2409840" y="260280"/>
            <a:ext cx="48261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Listen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828216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c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Practice the conversation. Then 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    make conversations about other 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    things in the picture on page 7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849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This is a really old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Yes, I’ve had it for seven years. I’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 it three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hy are you selling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Because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n’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ead i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ymo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How much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You can have it for 75 c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466560" y="836640"/>
            <a:ext cx="81378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nymor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也可写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ny more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常用于否定句末尾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示“再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); 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再”。相当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ot …any longe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You can have it, for I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don’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need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nymo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doctor told m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o play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mputer game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nymo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690480"/>
            <a:ext cx="849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Arial"/>
              </a:rPr>
              <a:t>2a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Listen and check (      ) the things </a:t>
            </a:r>
            <a:br>
              <a:rPr sz="3400"/>
            </a:b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    Amy’s family are giving away and </a:t>
            </a:r>
            <a:br>
              <a:rPr sz="3400"/>
            </a:b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    circle the things they are keeping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9952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ok         magazine     toy bear  toy l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y tiger   bread maker     swea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ess         hat                     scar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468360" y="2995560"/>
            <a:ext cx="1477800" cy="649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5003640" y="2995560"/>
            <a:ext cx="19447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5435640" y="4219560"/>
            <a:ext cx="1728720" cy="86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2"/>
          <p:cNvSpPr/>
          <p:nvPr/>
        </p:nvSpPr>
        <p:spPr>
          <a:xfrm>
            <a:off x="2411280" y="4290840"/>
            <a:ext cx="151128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1"/>
          <p:cNvGrpSpPr/>
          <p:nvPr/>
        </p:nvGrpSpPr>
        <p:grpSpPr>
          <a:xfrm>
            <a:off x="3059280" y="3141360"/>
            <a:ext cx="792000" cy="432000"/>
            <a:chOff x="3059280" y="3141360"/>
            <a:chExt cx="792000" cy="432000"/>
          </a:xfrm>
        </p:grpSpPr>
        <p:sp>
          <p:nvSpPr>
            <p:cNvPr id="107" name="Line 22"/>
            <p:cNvSpPr/>
            <p:nvPr/>
          </p:nvSpPr>
          <p:spPr>
            <a:xfrm>
              <a:off x="3059280" y="3357360"/>
              <a:ext cx="216000" cy="216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3"/>
            <p:cNvSpPr/>
            <p:nvPr/>
          </p:nvSpPr>
          <p:spPr>
            <a:xfrm flipV="1">
              <a:off x="3275280" y="3141360"/>
              <a:ext cx="576000" cy="431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4"/>
          <p:cNvGrpSpPr/>
          <p:nvPr/>
        </p:nvGrpSpPr>
        <p:grpSpPr>
          <a:xfrm>
            <a:off x="7524720" y="3141360"/>
            <a:ext cx="792000" cy="432000"/>
            <a:chOff x="7524720" y="3141360"/>
            <a:chExt cx="792000" cy="432000"/>
          </a:xfrm>
        </p:grpSpPr>
        <p:sp>
          <p:nvSpPr>
            <p:cNvPr id="110" name="Line 25"/>
            <p:cNvSpPr/>
            <p:nvPr/>
          </p:nvSpPr>
          <p:spPr>
            <a:xfrm>
              <a:off x="7524720" y="3357360"/>
              <a:ext cx="216000" cy="216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6"/>
            <p:cNvSpPr/>
            <p:nvPr/>
          </p:nvSpPr>
          <p:spPr>
            <a:xfrm flipV="1">
              <a:off x="7740720" y="3141360"/>
              <a:ext cx="576000" cy="431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7"/>
          <p:cNvGrpSpPr/>
          <p:nvPr/>
        </p:nvGrpSpPr>
        <p:grpSpPr>
          <a:xfrm>
            <a:off x="3276720" y="3860280"/>
            <a:ext cx="792000" cy="432000"/>
            <a:chOff x="3276720" y="3860280"/>
            <a:chExt cx="792000" cy="432000"/>
          </a:xfrm>
        </p:grpSpPr>
        <p:sp>
          <p:nvSpPr>
            <p:cNvPr id="113" name="Line 28"/>
            <p:cNvSpPr/>
            <p:nvPr/>
          </p:nvSpPr>
          <p:spPr>
            <a:xfrm>
              <a:off x="3276720" y="4076280"/>
              <a:ext cx="216000" cy="216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9"/>
            <p:cNvSpPr/>
            <p:nvPr/>
          </p:nvSpPr>
          <p:spPr>
            <a:xfrm flipV="1">
              <a:off x="3492720" y="3860280"/>
              <a:ext cx="576000" cy="431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0"/>
          <p:cNvGrpSpPr/>
          <p:nvPr/>
        </p:nvGrpSpPr>
        <p:grpSpPr>
          <a:xfrm>
            <a:off x="971640" y="3789000"/>
            <a:ext cx="792000" cy="432000"/>
            <a:chOff x="971640" y="3789000"/>
            <a:chExt cx="792000" cy="432000"/>
          </a:xfrm>
        </p:grpSpPr>
        <p:sp>
          <p:nvSpPr>
            <p:cNvPr id="116" name="Line 31"/>
            <p:cNvSpPr/>
            <p:nvPr/>
          </p:nvSpPr>
          <p:spPr>
            <a:xfrm>
              <a:off x="971640" y="4005000"/>
              <a:ext cx="216000" cy="216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 flipV="1">
              <a:off x="1187640" y="3789000"/>
              <a:ext cx="576000" cy="431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3"/>
          <p:cNvGrpSpPr/>
          <p:nvPr/>
        </p:nvGrpSpPr>
        <p:grpSpPr>
          <a:xfrm>
            <a:off x="6227640" y="3789000"/>
            <a:ext cx="792000" cy="432000"/>
            <a:chOff x="6227640" y="3789000"/>
            <a:chExt cx="792000" cy="432000"/>
          </a:xfrm>
        </p:grpSpPr>
        <p:sp>
          <p:nvSpPr>
            <p:cNvPr id="119" name="Line 34"/>
            <p:cNvSpPr/>
            <p:nvPr/>
          </p:nvSpPr>
          <p:spPr>
            <a:xfrm>
              <a:off x="6227640" y="4005000"/>
              <a:ext cx="216000" cy="216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5"/>
            <p:cNvSpPr/>
            <p:nvPr/>
          </p:nvSpPr>
          <p:spPr>
            <a:xfrm flipV="1">
              <a:off x="6443640" y="3789000"/>
              <a:ext cx="576000" cy="431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6"/>
          <p:cNvGrpSpPr/>
          <p:nvPr/>
        </p:nvGrpSpPr>
        <p:grpSpPr>
          <a:xfrm>
            <a:off x="826920" y="4581000"/>
            <a:ext cx="792000" cy="432000"/>
            <a:chOff x="826920" y="4581000"/>
            <a:chExt cx="792000" cy="432000"/>
          </a:xfrm>
        </p:grpSpPr>
        <p:sp>
          <p:nvSpPr>
            <p:cNvPr id="122" name="Line 37"/>
            <p:cNvSpPr/>
            <p:nvPr/>
          </p:nvSpPr>
          <p:spPr>
            <a:xfrm>
              <a:off x="826920" y="4797000"/>
              <a:ext cx="216000" cy="216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8"/>
            <p:cNvSpPr/>
            <p:nvPr/>
          </p:nvSpPr>
          <p:spPr>
            <a:xfrm flipV="1">
              <a:off x="1042920" y="4581000"/>
              <a:ext cx="576000" cy="431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41" descr="对勾"/>
          <p:cNvPicPr/>
          <p:nvPr/>
        </p:nvPicPr>
        <p:blipFill>
          <a:blip r:embed="rId2"/>
          <a:stretch/>
        </p:blipFill>
        <p:spPr>
          <a:xfrm>
            <a:off x="4222800" y="83664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88720"/>
            <a:ext cx="822960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Arial"/>
              </a:rPr>
              <a:t>2b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Listen again and fill in the blan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352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my has had her favorite ______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e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Amy has had the boy _____ since s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a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Amy’s mom has had the old bread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than _____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Amy can give away the _______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because they do not fit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264640" y="7621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401360" y="198756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448280" y="25621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456280" y="3276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87920" y="385776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w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52280" y="4498920"/>
            <a:ext cx="13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9280" y="134136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ff"/>
                </a:solidFill>
                <a:latin typeface="Arial"/>
              </a:rPr>
              <a:t>2c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3333ff"/>
                </a:solidFill>
                <a:latin typeface="Arial"/>
              </a:rPr>
              <a:t>Students A is Amy’s mom. Student </a:t>
            </a:r>
            <a:br>
              <a:rPr sz="3400"/>
            </a:br>
            <a:r>
              <a:rPr b="1" lang="en-US" sz="3400" spc="-1" strike="noStrike">
                <a:solidFill>
                  <a:srgbClr val="3333ff"/>
                </a:solidFill>
                <a:latin typeface="Arial"/>
              </a:rPr>
              <a:t>     B is Amy. Make conversa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92000" y="3141360"/>
            <a:ext cx="8352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Amy, can we give away these soft toy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Mom, I want to keep the b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hy? It’s so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Because I’ve had it since I was a bab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2771640" y="333360"/>
            <a:ext cx="295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Pairwor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ransition>
    <p:split dir="in" orient="horz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1023840" y="2603520"/>
            <a:ext cx="69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ff"/>
                </a:solidFill>
                <a:latin typeface="Arial"/>
              </a:rPr>
              <a:t>2d</a:t>
            </a:r>
            <a:r>
              <a:rPr b="1" lang="en-US" sz="3400" spc="-1" strike="noStrike">
                <a:solidFill>
                  <a:srgbClr val="3333ff"/>
                </a:solidFill>
                <a:latin typeface="Arial"/>
              </a:rPr>
              <a:t> Role-play the convers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52000" y="2565360"/>
            <a:ext cx="799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how long, how soon, how often, how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ow long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对时间段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问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 for+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间段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ince+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过去的时间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-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ow lo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have you worked in Beij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For five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24000" y="1268280"/>
            <a:ext cx="84978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--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lo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ave you had that bik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I have ha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ree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2411280" y="404640"/>
            <a:ext cx="403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Language points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40" name="Picture 5" descr="5454"/>
          <p:cNvPicPr/>
          <p:nvPr/>
        </p:nvPicPr>
        <p:blipFill>
          <a:blip r:embed="rId2"/>
          <a:stretch/>
        </p:blipFill>
        <p:spPr>
          <a:xfrm>
            <a:off x="395280" y="2421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63280" y="549000"/>
            <a:ext cx="828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ow soo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久以后。对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+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间段提问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用于一般将来时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答语常用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+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间段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-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ow so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ill Mr. Li be 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In a week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ow often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久一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频率提问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答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 once (twice/…)+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间段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 always, usu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-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ow oft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do you exerc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Once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5335560" y="23004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New words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24000" y="333360"/>
            <a:ext cx="84247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Yard sale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庭院旧货出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国外的一种风俗，也是一种独特的售货方式。人们利用周末，将家中搁置不用的物件，放在自家庭院中廉价出售，因而被称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ard s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也可译作“家庭拍卖会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庭院售卖的物品种类繁多，大到家具，电器，小到玩具，衣物和鞋帽。这些物品虽多数为二手家什，但也有全新的物品，且价格合理公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甚至还可讨价还价。正是这种低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道的价格及买家淘宝和碰大运的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，使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ard s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广受欢迎，逐渐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成一种独特的文化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4052091229_7163a472fa"/>
          <p:cNvPicPr/>
          <p:nvPr/>
        </p:nvPicPr>
        <p:blipFill>
          <a:blip r:embed="rId2"/>
          <a:stretch/>
        </p:blipFill>
        <p:spPr>
          <a:xfrm>
            <a:off x="6111720" y="412920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79280" y="90936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ow far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多远，对距离提问，其答语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距离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--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ow fa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is it from here to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Three kilome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53840" y="112536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其后只能接表示“一段时间”的名词性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语，可用于多种时态，表示动作或状态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续时间段长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e.g. I have lived in this city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five yea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我在这座城市居住了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年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He usually sleeps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twelve hours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他通常每天睡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个小时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WordArt 4" descr=""/>
          <p:cNvPicPr/>
          <p:nvPr/>
        </p:nvPicPr>
        <p:blipFill>
          <a:blip r:embed="rId2"/>
          <a:stretch/>
        </p:blipFill>
        <p:spPr>
          <a:xfrm>
            <a:off x="1609560" y="249120"/>
            <a:ext cx="2786400" cy="914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5454"/>
          <p:cNvPicPr/>
          <p:nvPr/>
        </p:nvPicPr>
        <p:blipFill>
          <a:blip r:embed="rId3"/>
          <a:stretch/>
        </p:blipFill>
        <p:spPr>
          <a:xfrm>
            <a:off x="539640" y="189000"/>
            <a:ext cx="957240" cy="95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03280" y="361440"/>
            <a:ext cx="864072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inc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后接表示“时间点”的短语或从句（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去时），也可以接“一段时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+ago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常用于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时态；还用于句型：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t is +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间段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+since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般过去时的句子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示过去某个时间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并持续到说话时的动作或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It is two years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in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came to Ch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从我到中国以来已经两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has worked her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five years.=S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s worked her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in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在这儿工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64960" y="1268280"/>
            <a:ext cx="797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sale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用作名词，意为“出售，销售”。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sale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意为“出售，上市”；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for sale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意为“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售，供出售”，尤指从主人手里出售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e.g. Chickens are on 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sale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 in the marke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小鸡在市场上出售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I’m sorry, it’s not for 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sal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抱歉，它不出售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666720"/>
            <a:ext cx="784872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2. Jeff’s family is having a yard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sal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813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It’s +</a:t>
            </a:r>
            <a:r>
              <a:rPr b="1" i="1" lang="zh-CN" sz="3400" spc="-1" strike="noStrike">
                <a:solidFill>
                  <a:srgbClr val="ff0000"/>
                </a:solidFill>
                <a:latin typeface="Times New Roman"/>
              </a:rPr>
              <a:t>adj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. (+for sb.) to do sth.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意为“（对某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人来说）做某事是……的”，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it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是形式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语，真正主语是后面的动词不定式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It’s important for us to learn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English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wel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学好英语对于我们来说是很重要的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98440" y="582480"/>
            <a:ext cx="83707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3. Amy thinks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it’s hard to sell her old things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艾米认为卖掉她的旧东西很难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74560" y="333360"/>
            <a:ext cx="8569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4. Amy wants to keep her old things because they bring back sweet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memories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艾米想保留她的旧东西，因为它们勾起她的甜蜜回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46200" y="2924280"/>
            <a:ext cx="8173800" cy="23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memory</a:t>
            </a:r>
            <a:r>
              <a:rPr b="1" i="1" lang="zh-CN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作名词意为“记忆；回忆”，复数形式为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memories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，动词为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memorize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，意为“记忆，背诵”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e.g. She has a good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memory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她记忆力好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8569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5. I’ve had this magazine for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a couple of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months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这本杂志我买了几个月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11280" y="1844640"/>
            <a:ext cx="799308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a couple of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表示具体的数量“两个”，指两个相同的人或物体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表示数量不定的“少数几个”，作这种虚指的用法时，具体意思往往视上下文和具体的语境而决定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e.g. You have to wait for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a couple of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hours for the clothes to dry completely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你得等上一两个小时让这些衣服完全晾干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366560" y="1917360"/>
            <a:ext cx="7777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a bit 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意为“一点儿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稍微”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修饰形容词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或副词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相当于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a little; a bit of +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不可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数名词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, a little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直接加不可数名词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e.g. There is 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a bit of/a little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 water in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the bottl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瓶子里有点儿水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6560" y="620640"/>
            <a:ext cx="8209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The stories inside may b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bi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ld, b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’re still interes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755640" y="476280"/>
            <a:ext cx="75614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ot a bit =not at all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意为“一点也不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ot a little =very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意为“非常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She i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ot a bi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happ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一点儿也不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i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ot a litt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He is very ti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非常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152000" y="1585440"/>
            <a:ext cx="799164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heck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用作及物动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意为“检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审查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heck out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意为“察看，观察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If you finish it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hec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t by yoursel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你完成了，就自己先检查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heck ou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all the books for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察看一下所有的儿童书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heck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还可用作名词，意为“支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账单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24000" y="477720"/>
            <a:ext cx="8280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A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eck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se soft toys and 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mes for younger k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53168-11110911091859"/>
          <p:cNvPicPr/>
          <p:nvPr/>
        </p:nvPicPr>
        <p:blipFill>
          <a:blip r:embed="rId2"/>
          <a:srcRect l="0" t="23451" r="0" b="7002"/>
          <a:stretch/>
        </p:blipFill>
        <p:spPr>
          <a:xfrm>
            <a:off x="784080" y="274680"/>
            <a:ext cx="2881440" cy="2854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684360" y="31003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oy bear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玩具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u=3332563577,3156350065&amp;fm=23&amp;gp=0"/>
          <p:cNvPicPr/>
          <p:nvPr/>
        </p:nvPicPr>
        <p:blipFill>
          <a:blip r:embed="rId3"/>
          <a:stretch/>
        </p:blipFill>
        <p:spPr>
          <a:xfrm>
            <a:off x="5076720" y="33336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788000" y="335772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read maker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面包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685953_13300665"/>
          <p:cNvPicPr/>
          <p:nvPr/>
        </p:nvPicPr>
        <p:blipFill>
          <a:blip r:embed="rId4"/>
          <a:srcRect l="0" t="0" r="0" b="2841"/>
          <a:stretch/>
        </p:blipFill>
        <p:spPr>
          <a:xfrm>
            <a:off x="2340000" y="3646440"/>
            <a:ext cx="243828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3"/>
          <p:cNvSpPr/>
          <p:nvPr/>
        </p:nvSpPr>
        <p:spPr>
          <a:xfrm>
            <a:off x="5221440" y="4556160"/>
            <a:ext cx="3563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carf </a:t>
            </a:r>
            <a:r>
              <a:rPr b="1" i="1" lang="zh-CN" sz="3200" spc="-1" strike="noStrike">
                <a:solidFill>
                  <a:srgbClr val="ff00ff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围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复数为：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ca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79280" y="1601640"/>
            <a:ext cx="806436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-- __ have you been marr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For twen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How far                   B. How oft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How long                 D. How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If you sit in a chair ____ a long time, your back may begin to h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at       B. in       C. on      D.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3203640" y="549360"/>
            <a:ext cx="31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隶书"/>
              </a:rPr>
              <a:t>中考链接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隶书"/>
              <a:ea typeface="隶书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619280" y="16970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151600" y="400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1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3. -- I often have hamburgers for lunc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-- You’d better not. It’s bad for you ____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oo much junk foo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. eat     B. to eat     C. eating     D. 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740720" y="1773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542520" y="3068640"/>
            <a:ext cx="8433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e a conversation according to 2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homework2"/>
          <p:cNvPicPr/>
          <p:nvPr/>
        </p:nvPicPr>
        <p:blipFill>
          <a:blip r:embed="rId2"/>
          <a:stretch/>
        </p:blipFill>
        <p:spPr>
          <a:xfrm>
            <a:off x="0" y="1628640"/>
            <a:ext cx="5448240" cy="1055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585720" y="2130480"/>
            <a:ext cx="7991640" cy="2606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矩形 5" descr=""/>
          <p:cNvPicPr/>
          <p:nvPr/>
        </p:nvPicPr>
        <p:blipFill>
          <a:blip r:embed="rId2"/>
          <a:stretch/>
        </p:blipFill>
        <p:spPr>
          <a:xfrm>
            <a:off x="3408480" y="865080"/>
            <a:ext cx="2273040" cy="9208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452520" y="220680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Each man is the architect    of his own fa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每个人都是自己命运的建筑师</a:t>
            </a:r>
            <a:br>
              <a:rPr sz="4800"/>
            </a:br>
            <a:r>
              <a:rPr b="0" lang="zh-CN" sz="4800" spc="-1" strike="noStrike">
                <a:solidFill>
                  <a:srgbClr val="ff3300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483974299_o"/>
          <p:cNvPicPr/>
          <p:nvPr/>
        </p:nvPicPr>
        <p:blipFill>
          <a:blip r:embed="rId2"/>
          <a:stretch/>
        </p:blipFill>
        <p:spPr>
          <a:xfrm>
            <a:off x="826920" y="765000"/>
            <a:ext cx="3372120" cy="44960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39640" y="5516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oft toys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毛绒玩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6jPnnmxsNlRJFVq"/>
          <p:cNvPicPr/>
          <p:nvPr/>
        </p:nvPicPr>
        <p:blipFill>
          <a:blip r:embed="rId3"/>
          <a:stretch/>
        </p:blipFill>
        <p:spPr>
          <a:xfrm>
            <a:off x="4572000" y="765000"/>
            <a:ext cx="4125960" cy="4069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4932360" y="5013360"/>
            <a:ext cx="3240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oard games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棋类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45840" y="2060640"/>
            <a:ext cx="8497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Look at the things at t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ard sa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have any of these th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home? How long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v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2916360" y="765000"/>
            <a:ext cx="316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Pairwork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2"/>
          <p:cNvSpPr/>
          <p:nvPr/>
        </p:nvSpPr>
        <p:spPr>
          <a:xfrm>
            <a:off x="825840" y="278136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y ti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634920" y="278136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y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300000" y="2781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y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250920" y="3357720"/>
            <a:ext cx="8497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have them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long have you had the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had 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…years./since …year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5"/>
          <p:cNvGrpSpPr/>
          <p:nvPr/>
        </p:nvGrpSpPr>
        <p:grpSpPr>
          <a:xfrm>
            <a:off x="826920" y="5072040"/>
            <a:ext cx="6696000" cy="1249200"/>
            <a:chOff x="826920" y="5072040"/>
            <a:chExt cx="6696000" cy="1249200"/>
          </a:xfrm>
        </p:grpSpPr>
        <p:sp>
          <p:nvSpPr>
            <p:cNvPr id="65" name="Rectangle 17"/>
            <p:cNvSpPr/>
            <p:nvPr/>
          </p:nvSpPr>
          <p:spPr>
            <a:xfrm>
              <a:off x="826920" y="5072040"/>
              <a:ext cx="6696000" cy="1249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8"/>
            <p:cNvSpPr/>
            <p:nvPr/>
          </p:nvSpPr>
          <p:spPr>
            <a:xfrm>
              <a:off x="826920" y="5072040"/>
              <a:ext cx="6626160" cy="630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for+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时间段；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since+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过去的时间点，是现在完成时的标志词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21" descr="u=70973921,3208528581&amp;fm=15&amp;gp=0"/>
          <p:cNvPicPr/>
          <p:nvPr/>
        </p:nvPicPr>
        <p:blipFill>
          <a:blip r:embed="rId2"/>
          <a:srcRect l="0" t="0" r="0" b="3779"/>
          <a:stretch/>
        </p:blipFill>
        <p:spPr>
          <a:xfrm>
            <a:off x="3564000" y="549360"/>
            <a:ext cx="1514520" cy="201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53168-11110911091859"/>
          <p:cNvPicPr/>
          <p:nvPr/>
        </p:nvPicPr>
        <p:blipFill>
          <a:blip r:embed="rId3"/>
          <a:srcRect l="0" t="23452" r="0" b="7001"/>
          <a:stretch/>
        </p:blipFill>
        <p:spPr>
          <a:xfrm>
            <a:off x="5940360" y="404640"/>
            <a:ext cx="2448000" cy="235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u=1168948613,3017655702&amp;fm=23&amp;gp=0"/>
          <p:cNvPicPr/>
          <p:nvPr/>
        </p:nvPicPr>
        <p:blipFill>
          <a:blip r:embed="rId4"/>
          <a:stretch/>
        </p:blipFill>
        <p:spPr>
          <a:xfrm>
            <a:off x="611280" y="404640"/>
            <a:ext cx="2246400" cy="2325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up 01"/>
          <p:cNvPicPr/>
          <p:nvPr/>
        </p:nvPicPr>
        <p:blipFill>
          <a:blip r:embed="rId2"/>
          <a:stretch/>
        </p:blipFill>
        <p:spPr>
          <a:xfrm>
            <a:off x="6516720" y="549360"/>
            <a:ext cx="2055960" cy="309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lamp 01"/>
          <p:cNvPicPr/>
          <p:nvPr/>
        </p:nvPicPr>
        <p:blipFill>
          <a:blip r:embed="rId3"/>
          <a:stretch/>
        </p:blipFill>
        <p:spPr>
          <a:xfrm>
            <a:off x="611280" y="692280"/>
            <a:ext cx="2592360" cy="2568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book 01"/>
          <p:cNvPicPr/>
          <p:nvPr/>
        </p:nvPicPr>
        <p:blipFill>
          <a:blip r:embed="rId4"/>
          <a:srcRect l="0" t="0" r="0" b="10789"/>
          <a:stretch/>
        </p:blipFill>
        <p:spPr>
          <a:xfrm>
            <a:off x="3492360" y="981000"/>
            <a:ext cx="2511720" cy="237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1404360" y="364824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492360" y="3645000"/>
            <a:ext cx="18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ld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7021080" y="371952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50920" y="4653000"/>
            <a:ext cx="8569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long have you had the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ha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for …years./since …year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magazine 01"/>
          <p:cNvPicPr/>
          <p:nvPr/>
        </p:nvPicPr>
        <p:blipFill>
          <a:blip r:embed="rId2"/>
          <a:stretch/>
        </p:blipFill>
        <p:spPr>
          <a:xfrm>
            <a:off x="0" y="765000"/>
            <a:ext cx="2438280" cy="285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vase 01"/>
          <p:cNvPicPr/>
          <p:nvPr/>
        </p:nvPicPr>
        <p:blipFill>
          <a:blip r:embed="rId3"/>
          <a:stretch/>
        </p:blipFill>
        <p:spPr>
          <a:xfrm>
            <a:off x="7093080" y="1197000"/>
            <a:ext cx="1554120" cy="2303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at 01"/>
          <p:cNvPicPr/>
          <p:nvPr/>
        </p:nvPicPr>
        <p:blipFill>
          <a:blip r:embed="rId4"/>
          <a:stretch/>
        </p:blipFill>
        <p:spPr>
          <a:xfrm>
            <a:off x="3132000" y="98100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610920" y="379260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572720" y="37195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7525080" y="371952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24000" y="4653000"/>
            <a:ext cx="8569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long have you had the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ha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for …years./since …years ag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weater 01"/>
          <p:cNvPicPr/>
          <p:nvPr/>
        </p:nvPicPr>
        <p:blipFill>
          <a:blip r:embed="rId2"/>
          <a:stretch/>
        </p:blipFill>
        <p:spPr>
          <a:xfrm>
            <a:off x="250920" y="620640"/>
            <a:ext cx="2846160" cy="284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scarf 01"/>
          <p:cNvPicPr/>
          <p:nvPr/>
        </p:nvPicPr>
        <p:blipFill>
          <a:blip r:embed="rId3"/>
          <a:stretch/>
        </p:blipFill>
        <p:spPr>
          <a:xfrm>
            <a:off x="5495760" y="765000"/>
            <a:ext cx="3324240" cy="260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dress 01"/>
          <p:cNvPicPr/>
          <p:nvPr/>
        </p:nvPicPr>
        <p:blipFill>
          <a:blip r:embed="rId4"/>
          <a:stretch/>
        </p:blipFill>
        <p:spPr>
          <a:xfrm>
            <a:off x="2916360" y="692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826920" y="364824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w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3636720" y="35766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517080" y="357660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ca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24000" y="4653000"/>
            <a:ext cx="856908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long have you had the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ha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for …years./since …year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2-01T17:52:36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